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E8C-35A7-4949-948A-B6A253E2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BEF-5BA5-49E9-AF1D-55F7BF6F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A38-1CEA-4572-BFDE-C2164762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7BF-62DE-4849-9BDA-47348544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82A1-CABC-44E3-888F-E41D68D2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CD97-81CD-4068-8CAE-252942A6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EB2A-EFAA-41D3-B86D-7D233A63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B976-8C69-4A1F-8BD6-A3BA5104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2DA-2161-423F-B935-68697F13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7D4B-711F-4B1A-B13E-3BD84BAF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4F4-D533-4814-A3D9-3B0768C6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FC7-7E5E-4FEE-981D-E1F0890E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46D8-CCDC-4724-9158-FD06E8C7963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76280" y="765000"/>
            <a:ext cx="8191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380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رع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الرع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ذكر الرعد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4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محم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مال قدرة الله تعال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14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ية الوح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البع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استدلال بتوحيد الربوبية على توحيد الألوه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5"/>
          <p:cNvCxnSpPr/>
          <p:nvPr/>
        </p:nvCxnSpPr>
        <p:spPr>
          <a:xfrm flipH="1">
            <a:off x="8458920" y="380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4160" y="35733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صفات السعداء والأشقيا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2T10:16:42Z</dcterms:modified>
  <cp:revision>1807</cp:revision>
  <dc:subject/>
  <dc:title>عرض تقديمي في PowerPoint</dc:title>
</cp:coreProperties>
</file>